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21F-C123-461C-9BBA-EEC76154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515-2018-4FA2-BF5A-EF9AF0BC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B4B-8F64-4479-BBE0-F857AC51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899-4E9C-47A8-8154-41D4C5C7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1BB-B2C6-46D3-A924-36AF4169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B6B-0675-4004-8663-6E70A5C2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69F-34A0-4BD7-B98F-40C92C43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060-7999-4048-AC62-6DCAEEFE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B2B-B4BB-4233-9E7E-3489CBD1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12E-FBF8-4AEE-BE11-86489EE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A5C-22DA-4076-B524-36454A81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D6E-8494-4B5B-B67D-EE6E2684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0148-772E-412C-9236-8ABCE339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50states.com/oklahoma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bensguide.gpo.gov/3-5/state/oklahom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81130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postcardsfrom.com/stamp/stamp-ok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990720"/>
            <a:ext cx="67057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3366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klahoma</a:t>
            </a:r>
            <a:endParaRPr b="0" lang="en-US" sz="1800" spc="1" strike="noStrike">
              <a:ln w="38160">
                <a:solidFill>
                  <a:srgbClr val="993366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41911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4343400"/>
            <a:ext cx="32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de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 20,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: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48520" y="380880"/>
            <a:ext cx="1828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 States,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Alaba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o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0/7/2010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50states.com/oklahoma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185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Oklaho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Oklahoma 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3,450,65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Union: 4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vember 16,19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Labor Omnia Vinc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Sooner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Mistleto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Redbu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Oklaho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“Red Peopl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Oklahoma: Map and State Flag"/>
          <p:cNvPicPr/>
          <p:nvPr/>
        </p:nvPicPr>
        <p:blipFill>
          <a:blip r:embed="rId1"/>
          <a:srcRect l="8436" t="0" r="11541" b="58638"/>
          <a:stretch/>
        </p:blipFill>
        <p:spPr>
          <a:xfrm>
            <a:off x="1447920" y="68580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Oklahoma: Map and State Flag"/>
          <p:cNvPicPr/>
          <p:nvPr/>
        </p:nvPicPr>
        <p:blipFill>
          <a:blip r:embed="rId2"/>
          <a:srcRect l="0" t="56088" r="0" b="1370"/>
          <a:stretch/>
        </p:blipFill>
        <p:spPr>
          <a:xfrm>
            <a:off x="4572000" y="685800"/>
            <a:ext cx="4095720" cy="2362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415116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 for Ki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Oklaho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2 September 201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oklahoma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klaho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451240" y="1623960"/>
          <a:ext cx="3857400" cy="517680"/>
        </p:xfrm>
        <a:graphic>
          <a:graphicData uri="http://schemas.openxmlformats.org/drawingml/2006/table">
            <a:tbl>
              <a:tblPr/>
              <a:tblGrid>
                <a:gridCol w="38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451240" y="2141640"/>
          <a:ext cx="3857400" cy="3030480"/>
        </p:xfrm>
        <a:graphic>
          <a:graphicData uri="http://schemas.openxmlformats.org/drawingml/2006/table">
            <a:tbl>
              <a:tblPr/>
              <a:tblGrid>
                <a:gridCol w="3857400"/>
              </a:tblGrid>
              <a:tr h="31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72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7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All images Copyright © 1997 - 2000 WriteLine. All Rights Reserved. Oil Derrick and Capitol"/>
          <p:cNvPicPr/>
          <p:nvPr/>
        </p:nvPicPr>
        <p:blipFill>
          <a:blip r:embed="rId1"/>
          <a:srcRect l="33642" t="0" r="0" b="0"/>
          <a:stretch/>
        </p:blipFill>
        <p:spPr>
          <a:xfrm>
            <a:off x="2286000" y="228600"/>
            <a:ext cx="4800600" cy="441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506556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klahoma City, OK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3 Semptember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81130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-457200" y="189000"/>
            <a:ext cx="365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1080" y="264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895480" y="-14630400"/>
          <a:ext cx="182520" cy="36437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3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Georgia"/>
                        </a:rPr>
                        <a:t>Oklahoma State Stam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0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38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State Flower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Georgia"/>
                        </a:rPr>
                        <a:t>Mistlet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98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State Bir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Georgia"/>
                        </a:rPr>
                        <a:t>Scissor-tailed Flycat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Copyright © 1998 WriteLine. All Rights Reserved. Mistletoe"/>
          <p:cNvPicPr/>
          <p:nvPr/>
        </p:nvPicPr>
        <p:blipFill>
          <a:blip r:embed="rId1"/>
          <a:stretch/>
        </p:blipFill>
        <p:spPr>
          <a:xfrm>
            <a:off x="3613320" y="-9066240"/>
            <a:ext cx="185724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opyright © 1998 WriteLine. All Rights Reserved. Scissor-tailed Flycatcher"/>
          <p:cNvPicPr/>
          <p:nvPr/>
        </p:nvPicPr>
        <p:blipFill>
          <a:blip r:embed="rId2"/>
          <a:stretch/>
        </p:blipFill>
        <p:spPr>
          <a:xfrm>
            <a:off x="5257800" y="152280"/>
            <a:ext cx="29718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1400" y="34128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Oklahoma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Bird: Its re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cinati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06556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klahoma State Stam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3 September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.com/stamp/stamp-ok.htm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37Z</dcterms:created>
  <dc:creator>install</dc:creator>
  <dc:description/>
  <dc:language>en-US</dc:language>
  <cp:lastModifiedBy>install</cp:lastModifiedBy>
  <dcterms:modified xsi:type="dcterms:W3CDTF">2010-10-14T13:19:45Z</dcterms:modified>
  <cp:revision>12</cp:revision>
  <dc:subject/>
  <dc:title>Slide 1</dc:title>
</cp:coreProperties>
</file>